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174-515F-4F1D-9B8C-0E5E4AB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796-6963-42DE-8AA5-76C2231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2E1-D75B-4E26-AF9B-0FAAAF04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228-EC7A-4E32-97A9-2038F3F9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0D3A-8AB2-4A61-87BD-063CB54E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54B-2EBF-4C37-95DE-02EB543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206-93B4-4446-8628-0E514A5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B0DA-5557-4019-BD1E-63AD850C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4DAC-7411-4751-A1B4-18FAA2F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EBEB-1EE7-44E5-A7D8-C0FDD38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81F-0153-4337-9D5E-070EB4C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630-D8B3-4FB0-B9C8-8D0A54FC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FC2-AE96-470D-AAB0-E7CC0F9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8F8-0380-4310-B55B-94A9ED0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F2C5-254E-473B-A596-C101251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7B8-558E-4D67-A8B2-E528859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AF3-9012-4F4E-8341-63703C54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C0C-2BD5-45AB-B58A-F803A79A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A56-0785-409A-A741-77B9C528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22E-9F81-4FA9-8B0B-B66D2E6D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564-7335-4AE8-A1BA-0A59A52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FA0-0FE7-46D9-B0BB-3F6B5B4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630-6E4B-4110-B007-20E9928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483-2E71-4269-BDF5-438FE16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909-4280-4801-9BD7-19C0FCF1C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64F-8380-44E5-BC70-3A0729D34E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ar.by-airforce.com/images/Italy-1943/Invasion_of_italy_1943-R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38080" y="609480"/>
            <a:ext cx="7391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poral Leander Guen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7" descr="82619"/>
          <p:cNvPicPr/>
          <p:nvPr/>
        </p:nvPicPr>
        <p:blipFill>
          <a:blip r:embed="rId1"/>
          <a:stretch/>
        </p:blipFill>
        <p:spPr>
          <a:xfrm>
            <a:off x="457200" y="182880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orporal,_East_Surrey_Regiment_1940"/>
          <p:cNvPicPr/>
          <p:nvPr/>
        </p:nvPicPr>
        <p:blipFill>
          <a:blip r:embed="rId2"/>
          <a:stretch/>
        </p:blipFill>
        <p:spPr>
          <a:xfrm>
            <a:off x="4038480" y="1828800"/>
            <a:ext cx="4838760" cy="376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57200" y="5791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Harold Alex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495680" y="5791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oral Leander Guen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italy-falls-to-allies-19"/>
          <p:cNvPicPr/>
          <p:nvPr/>
        </p:nvPicPr>
        <p:blipFill>
          <a:blip r:embed="rId1"/>
          <a:stretch/>
        </p:blipFill>
        <p:spPr>
          <a:xfrm>
            <a:off x="0" y="2286000"/>
            <a:ext cx="4486320" cy="3733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 txBox="1"/>
          <p:nvPr/>
        </p:nvSpPr>
        <p:spPr>
          <a:xfrm>
            <a:off x="2209680" y="3808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ing o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5" name="Picture 5" descr="Battle_of_Italy_1943-4.jpg"/>
          <p:cNvPicPr/>
          <p:nvPr/>
        </p:nvPicPr>
        <p:blipFill>
          <a:blip r:embed="rId2"/>
          <a:stretch/>
        </p:blipFill>
        <p:spPr>
          <a:xfrm>
            <a:off x="4648320" y="2590920"/>
            <a:ext cx="4316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nvasion_of_italy_1943"/>
          <p:cNvPicPr/>
          <p:nvPr/>
        </p:nvPicPr>
        <p:blipFill>
          <a:blip r:embed="rId1"/>
          <a:stretch/>
        </p:blipFill>
        <p:spPr>
          <a:xfrm>
            <a:off x="380880" y="1676520"/>
            <a:ext cx="3835440" cy="459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The Allied invasion of Ita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8288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3124080" y="457200"/>
            <a:ext cx="282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ps of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7200" y="6400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asion of Italy 19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80060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le of Italy 1943-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2444760" y="158760"/>
            <a:ext cx="4052880" cy="11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injured soldier.jpg"/>
          <p:cNvPicPr/>
          <p:nvPr/>
        </p:nvPicPr>
        <p:blipFill>
          <a:blip r:embed="rId2"/>
          <a:stretch/>
        </p:blipFill>
        <p:spPr>
          <a:xfrm>
            <a:off x="152280" y="1981080"/>
            <a:ext cx="3608640" cy="358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72284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15fig79"/>
          <p:cNvPicPr/>
          <p:nvPr/>
        </p:nvPicPr>
        <p:blipFill>
          <a:blip r:embed="rId1"/>
          <a:stretch/>
        </p:blipFill>
        <p:spPr>
          <a:xfrm>
            <a:off x="0" y="2514600"/>
            <a:ext cx="4191120" cy="36162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289548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r i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5" descr="Battle_of_Italy_1943-3.jpg"/>
          <p:cNvPicPr/>
          <p:nvPr/>
        </p:nvPicPr>
        <p:blipFill>
          <a:blip r:embed="rId2"/>
          <a:stretch/>
        </p:blipFill>
        <p:spPr>
          <a:xfrm>
            <a:off x="4495680" y="2362320"/>
            <a:ext cx="4419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1847880" y="158760"/>
            <a:ext cx="5259240" cy="11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1.bp.blogspot.com/_WJXcHLyr7IA/Rog036jfzJI/AAAAAAAABn4/NJoG2IHNQF8/s320/019.JPG"/>
          <p:cNvPicPr/>
          <p:nvPr/>
        </p:nvPicPr>
        <p:blipFill>
          <a:blip r:embed="rId2"/>
          <a:stretch/>
        </p:blipFill>
        <p:spPr>
          <a:xfrm>
            <a:off x="228600" y="1371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robert-mcdonald.com/images/ram-rank-ww2-corporal-l.gif"/>
          <p:cNvPicPr/>
          <p:nvPr/>
        </p:nvPicPr>
        <p:blipFill>
          <a:blip r:embed="rId3"/>
          <a:stretch/>
        </p:blipFill>
        <p:spPr>
          <a:xfrm>
            <a:off x="2209680" y="50292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Grave.jpg"/>
          <p:cNvPicPr/>
          <p:nvPr/>
        </p:nvPicPr>
        <p:blipFill>
          <a:blip r:embed="rId4"/>
          <a:srcRect l="28377" t="0" r="16487" b="48562"/>
          <a:stretch/>
        </p:blipFill>
        <p:spPr>
          <a:xfrm>
            <a:off x="4572000" y="2743200"/>
            <a:ext cx="3886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6:39Z</dcterms:created>
  <dc:creator>Information Technology</dc:creator>
  <dc:description/>
  <dc:language>en-US</dc:language>
  <cp:lastModifiedBy>Information Technology</cp:lastModifiedBy>
  <dcterms:modified xsi:type="dcterms:W3CDTF">2010-02-18T13:01:46Z</dcterms:modified>
  <cp:revision>16</cp:revision>
  <dc:subject/>
  <dc:title>Slide 1</dc:title>
</cp:coreProperties>
</file>